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D2E1-FF0D-4A7B-9D11-A20EE3048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33C5-ED20-4DDD-B369-44B129A29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F55A-3903-4EAD-A341-393F35556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98B1-DEFF-4285-A021-326BC3BC0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17BE-A6CC-482C-B3D7-2CC59F2BE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42FD-F69C-4381-91D2-D046F6517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D092-C804-4CAF-87F3-30877C12A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E3FE-BA1A-435F-8C8E-5FB110593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C590-3E43-4940-97AC-134F07AC6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6794-B9CB-4A16-9A69-C9E18CA0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777E-5A6F-40B5-8CBB-0C4E9EA1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E8E2-F807-42CB-9236-B5A74F93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78BA3-FEC6-4F0D-BA76-D4288A7AAA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inal Project – Part 1: The Li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632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ist a minimum of 50 things you use in a da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verything from the alarm clock that wakes you up to the plate your dinner was 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ore than 60 is considered Advanced (4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f you repeat, only count it once towards your 5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What is the primary natural resource that is used to make it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his might take a little research for some i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ake sure you are actually putting down a natural resources (wood and plastic are not natural resour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How long do you use it until you replace or dispose of it (days, weeks, months, years)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How can you Reduce, Reuse or Recycle it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r is there a more environmentally friendly alternativ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inal Project – Part 2: Eco-We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28240" y="11426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You are the center of the web!!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layer of web spreading out from you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hoose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t leas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20 different things from your lis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hoose the items with your BEST IDEAS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layer of web spreading from list item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natural resource each item comes from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rd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layer of web spreading from natural resourc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How long that item lasts before disposal/replac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Arial"/>
              </a:rPr>
              <a:t>4</a:t>
            </a:r>
            <a:r>
              <a:rPr b="1" lang="en-US" sz="30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th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Arial"/>
              </a:rPr>
              <a:t> layer of web spreading from tim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HOW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Arial"/>
              </a:rPr>
              <a:t> you are going to be more environmentally friendly for each item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Arial"/>
              </a:rPr>
              <a:t>***Make this layer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Arial"/>
              </a:rPr>
              <a:t>STAND OUT!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Arial"/>
              </a:rPr>
              <a:t>***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Model Personal Eco-Web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Oval 3"/>
          <p:cNvSpPr/>
          <p:nvPr/>
        </p:nvSpPr>
        <p:spPr>
          <a:xfrm>
            <a:off x="228600" y="5257800"/>
            <a:ext cx="1447920" cy="1447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YOU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4"/>
          <p:cNvSpPr/>
          <p:nvPr/>
        </p:nvSpPr>
        <p:spPr>
          <a:xfrm>
            <a:off x="1066680" y="2971800"/>
            <a:ext cx="1295640" cy="838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5"/>
          <p:cNvSpPr/>
          <p:nvPr/>
        </p:nvSpPr>
        <p:spPr>
          <a:xfrm>
            <a:off x="2971800" y="3276720"/>
            <a:ext cx="2209680" cy="15238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Natural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6"/>
          <p:cNvSpPr/>
          <p:nvPr/>
        </p:nvSpPr>
        <p:spPr>
          <a:xfrm>
            <a:off x="7010280" y="0"/>
            <a:ext cx="2133720" cy="3200400"/>
          </a:xfrm>
          <a:prstGeom prst="ellipse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Calibri"/>
              </a:rPr>
              <a:t>HOW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 to reduce, reuse, recycle, or change what you u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7"/>
          <p:cNvSpPr/>
          <p:nvPr/>
        </p:nvSpPr>
        <p:spPr>
          <a:xfrm>
            <a:off x="3886200" y="1523880"/>
            <a:ext cx="2209680" cy="1447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Time before dispo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Straight Arrow Connector 9"/>
          <p:cNvCxnSpPr>
            <a:stCxn id="46" idx="7"/>
            <a:endCxn id="47" idx="3"/>
          </p:cNvCxnSpPr>
          <p:nvPr/>
        </p:nvCxnSpPr>
        <p:spPr>
          <a:xfrm flipH="1" flipV="1">
            <a:off x="1256760" y="3687480"/>
            <a:ext cx="207000" cy="1783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" name="Straight Arrow Connector 11"/>
          <p:cNvCxnSpPr>
            <a:stCxn id="47" idx="6"/>
          </p:cNvCxnSpPr>
          <p:nvPr/>
        </p:nvCxnSpPr>
        <p:spPr>
          <a:xfrm>
            <a:off x="2362320" y="3390840"/>
            <a:ext cx="915120" cy="115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3" name="Straight Arrow Connector 14"/>
          <p:cNvCxnSpPr>
            <a:endCxn id="50" idx="4"/>
          </p:cNvCxnSpPr>
          <p:nvPr/>
        </p:nvCxnSpPr>
        <p:spPr>
          <a:xfrm flipV="1">
            <a:off x="4648320" y="2971440"/>
            <a:ext cx="343440" cy="381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" name="Straight Arrow Connector 15"/>
          <p:cNvCxnSpPr>
            <a:endCxn id="49" idx="2"/>
          </p:cNvCxnSpPr>
          <p:nvPr/>
        </p:nvCxnSpPr>
        <p:spPr>
          <a:xfrm flipV="1">
            <a:off x="6019560" y="1599840"/>
            <a:ext cx="991080" cy="381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5" name="TextBox 19"/>
          <p:cNvSpPr/>
          <p:nvPr/>
        </p:nvSpPr>
        <p:spPr>
          <a:xfrm>
            <a:off x="533520" y="4795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0"/>
          <p:cNvSpPr/>
          <p:nvPr/>
        </p:nvSpPr>
        <p:spPr>
          <a:xfrm>
            <a:off x="1066680" y="25146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yer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1"/>
          <p:cNvSpPr/>
          <p:nvPr/>
        </p:nvSpPr>
        <p:spPr>
          <a:xfrm>
            <a:off x="3505320" y="4724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yer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2"/>
          <p:cNvSpPr/>
          <p:nvPr/>
        </p:nvSpPr>
        <p:spPr>
          <a:xfrm>
            <a:off x="4343400" y="10666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yer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3"/>
          <p:cNvSpPr/>
          <p:nvPr/>
        </p:nvSpPr>
        <p:spPr>
          <a:xfrm>
            <a:off x="7467480" y="31240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yer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2"/>
          <p:cNvSpPr/>
          <p:nvPr/>
        </p:nvSpPr>
        <p:spPr>
          <a:xfrm>
            <a:off x="-76320" y="76320"/>
            <a:ext cx="9296640" cy="73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2060"/>
                </a:solidFill>
                <a:uFillTx/>
                <a:latin typeface="Comic Sans MS"/>
              </a:rPr>
              <a:t>You have OPTIONS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2060"/>
                </a:solidFill>
                <a:latin typeface="Comic Sans MS"/>
              </a:rPr>
              <a:t>How would you like to display this inform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- Most people make their eco-web on a post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- You could make your eco-web online at mind42.com or a similar websi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- You could also make it in a program like Inspir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- Do you have another idea how you can display the same information in a different wa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066680" y="762120"/>
            <a:ext cx="72392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 1 and 2 should both be complete by the beginning of class on Wednesda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dnesday we will be starting Part 3 of the final projec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04:47:56Z</dcterms:created>
  <dc:creator>User</dc:creator>
  <dc:description/>
  <dc:language>en-US</dc:language>
  <cp:lastModifiedBy>Cari Schruth</cp:lastModifiedBy>
  <dcterms:modified xsi:type="dcterms:W3CDTF">2009-11-01T14:47:53Z</dcterms:modified>
  <cp:revision>110</cp:revision>
  <dc:subject/>
  <dc:title>Monday, 10/19/09    Session 33</dc:title>
</cp:coreProperties>
</file>